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3D11-43ED-419B-A964-7B002C741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FFDB-51E8-4E93-9FC4-58E9B007ED0C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80E5-2B9F-46A9-A5AC-5F41A3843D8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Torgeson formally of the FCRR reiterates the importance of having prerequisite skills in place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your FAIR dat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F907-1149-4EC7-92EF-91E260DECFC5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15EB-4ADF-450E-898B-A64309AD4A0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what research says will have an effect on your students’ reading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4E09-CD08-4A0A-97E0-6B578C413F2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effective strategy for improving fluency in connected text is the use of repeated readings.  We will be looking more in-depth at timed repeated readings a little later.  These readings can be done with an adult, and as Dr. Hudson says, this pairing will result in a more dramatic gain, but that requires a lot of time with the teacher.  Research studies have shown that peers can be adequate partners for fluency practice.  Choral reading, tape or computer-assisted reading are other approaches to fluency practice.  We will be looking at Reader’s Theater a littl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8359-C28F-4A2C-B9FE-C23E8AAFDF37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working specifically on reading fluency, it is critical that you chose appropriate pa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F3C-51F3-47C5-9E25-C1C09086F11A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4F63-D086-40B8-A9C7-CC9388698CA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605-2347-4A11-B976-6CAA3F37487E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C87F-C2F7-4F06-837A-91B3BF951776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tely—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--at a quick pace without stumbling over words; au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ody-with expression;  a speaking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the importance of prosody by read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! Yes! With J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first time with accuracy a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read with pros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definition of fluency, how would you answer this ques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good readers will have difficulty reading text fluently if there are an number of unfamiliar words in the text or the content of the text is unfam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ee some examples of text you might find challe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7144-CF96-492A-8F33-DAC82B1CB1C6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 how did you answer this question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28F9-3ED5-4BB5-944A-D91C0C537B65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490-9B8E-41C1-9CE7-A49C98C16EE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ee what Dr. Roxanne Hudson has to say about the importance of fluency.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 LEaRN video on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925D-7A34-458B-B934-91A486620B68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view Dr. Hudson’s video, let’s compare our less fluent readers to our more fluent re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have both fluent and non fluent readers in your classrooms.  Why is it that some students read less fluently than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1ED-AA62-4789-9373-5B5F61FA3A6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number of prerequisite skills necessary before a student can be a fluent re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34D1-B515-4FD3-8DB9-87C459D7D2B6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108-6097-4740-B33A-A5ED5C38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A64-3DD1-406F-AA2F-98F7359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09D-EFE4-4247-B75C-2ACFD746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3B2-5BF4-404F-A287-D2437451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9FC1-3009-4FD8-9E2D-52CC72A1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EE78-18BE-4E20-B6AA-D712133A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817B-70AA-4F03-BDC5-B3897428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971-D923-4DA8-AE00-500ADAD1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42FC-0A15-4052-A41B-7BA17F46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8222-85C5-4E86-A402-A15BFF7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E42D-9A3C-4F7C-BF33-58F0D8E1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909-2D8A-40B7-9626-FE7D227F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79BC-980F-41CE-90D1-9B64AB2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7F71-0FE9-4996-8202-BDFB326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53EF-AC6B-4163-B693-EDACF7DA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82B7-2CDD-4F5E-B2B7-7C945EE6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4A14-0501-4B41-B913-577F62C1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4C4-2BED-4F65-89DC-7E1EEA98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785-7E51-407F-8D36-4356845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173-8FE7-4BE1-9E5E-237B8703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72D-2FBD-4ED7-8E6F-DEF8268E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5A9-79CA-41E7-A153-E9FB9F1A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E75-AFCE-4A68-93AF-70297CB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075-5030-4B59-B830-C0131FA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023D-0D25-46C6-8FE8-DA47D5739E6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9828-B79B-4E43-BF68-3F81514B729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READING 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Literacy Links Found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Mary Baile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2703240" cy="60642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5"/>
          <p:cNvSpPr/>
          <p:nvPr/>
        </p:nvSpPr>
        <p:spPr>
          <a:xfrm>
            <a:off x="502920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Hudson, R., Pullen, P.,  Lane, H., Torgesen, J. (2009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Schools, grade levels, and teachers that are not producing strong growth in phonemic awareness, phonics, and </a:t>
            </a:r>
            <a:r>
              <a:rPr b="1" i="1" lang="en-US" sz="36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 in their students are not likely to show strong gains on measures of reading comprehension.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                               Torgesen, 2005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pecifically, schools must provide…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re powerful instruction toward mastery of the alphabetic principal by the end of first grad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ronger support for the growth of reading fluency in first and second grad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4176"/>
                </a:solidFill>
                <a:latin typeface="Arial"/>
              </a:rPr>
              <a:t>What activities do you use in your classroom to help your students develop their fluency skill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Model fluent rea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ad to your students dai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tape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ve students practice re-reading the same tex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Use repeated reading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Student-adult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Partner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Choral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Tape/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Reader’s theat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Practi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ssages should be relatively shor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 should be reasonably easy for stud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47920" y="3809880"/>
          <a:ext cx="6095880" cy="2551320"/>
        </p:xfrm>
        <a:graphic>
          <a:graphicData uri="http://schemas.openxmlformats.org/drawingml/2006/table">
            <a:tbl>
              <a:tblPr/>
              <a:tblGrid>
                <a:gridCol w="1981080"/>
                <a:gridCol w="2082960"/>
                <a:gridCol w="203184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dependent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structiona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Frustration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6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2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5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0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More than 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ss than 90%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Monitor Progres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determine the effectiveness of instruction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to set instructional goal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Is motivating to student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imed Readin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elect passag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ave students read passage for 1 minute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Count number of words read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ubtract the number of error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Graph WCPM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176"/>
                </a:solidFill>
                <a:latin typeface="Arial"/>
              </a:rPr>
              <a:t>With greater fluency, readers can concentrate on comprehending what they read, develop greater self confidence, and enjoy reading more.</a:t>
            </a:r>
            <a:br>
              <a:rPr sz="40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Gilbert &amp; Temple, 1994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the ability to read a text accurately and quickly with prosody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Do </a:t>
            </a:r>
            <a:r>
              <a:rPr b="1" i="1" lang="en-US" sz="5400" spc="-1" strike="noStrike">
                <a:solidFill>
                  <a:srgbClr val="404176"/>
                </a:solidFill>
                <a:latin typeface="Arial"/>
              </a:rPr>
              <a:t>you</a:t>
            </a: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 read all text fluentl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is reading fluently important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important because it provides a bridge between word recognition and comprehension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Less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t focus their attention primarily on decoding individual words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ve little attention left for comprehending the the tex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More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cus attention on making connections among the ideas in the text and their background knowledg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ble to focus on comprehens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might your students have difficulty with reading fluenc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Letter familiarity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Knowledge of alphabetic principle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Fluency is also dependent on the reader’s vocabulary skills. Students must connect with the syntactical and meaning aspects of words.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4:50:10Z</dcterms:created>
  <dc:creator>Maryk</dc:creator>
  <dc:description/>
  <dc:language>en-US</dc:language>
  <cp:lastModifiedBy>ECSD</cp:lastModifiedBy>
  <dcterms:modified xsi:type="dcterms:W3CDTF">2010-04-12T14:46:45Z</dcterms:modified>
  <cp:revision>11</cp:revision>
  <dc:subject/>
  <dc:title>READING FLUENCY</dc:title>
</cp:coreProperties>
</file>